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0B5-8779-488A-9D60-E8013E2A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FBD-3220-4F51-A402-20D1E2E1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6FAC-4F03-4FA1-9E53-76C7742E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02A-2A0D-4927-8C4E-DB21F4F0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E17-B651-4D30-B65B-27713734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626-2573-4DB8-BB22-EAABB583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AF7-4458-4A5E-B879-3DB74D4E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F9D-EB91-4A86-96D7-5210CDFE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ABBD-4E13-4EC4-9B53-84EE27CD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CDE-8B6D-4013-8414-253DD05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289-A89C-4CC6-8D79-9EF3677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DDB-327B-4189-9839-BB2F4A63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FE63-1782-4B85-A924-5AD3E43E3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коном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е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различита тумаче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економском смислу појединци најбоље просуђују шта чини осећај личног благо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дравственој економиј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потреба се тумачи у ширем смислу, подразумева како потребе тако и захтеве појединца у здравственом систем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ан значај у изради дизајна фармакоекономског истраживања  се односи на одабир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ла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ења у којем се спроводи анализ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г компаратор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para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тервенције које се пореде у фармакоекономским анализама морају бити поредбене и у домену трошкова и у домену 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ње тачке гледишта са којег се посматрају трошкови представља кључно питање у фармакоекономији и дефинише се као перспектив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можемо тумачити са аспек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давца, односно институције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er perspec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а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ers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ive) 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а у целини (eng. societal persp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евалуацијама здравствене интервенције се процењују у доме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медицинским услугама се додељује монетарна вредност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utcomes, benefit, consequ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се могу изразити природним јединицама (које описују природни ток болести) или јединицама „корисности“, које се најчешће изражавају употребом јединица које мере квалитет живот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 је поставити временски оквир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horiz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у којем ће се посматрати трошкови и исход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бусност резултата фармакоекономске анализе треба проверити извођењем анализе сензитивности 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м варијабли у унапред предвиђеном распону могуће је уочити и промену одлуке добијене фармакоекономском анали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ији трошкови се најчешће деле на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рект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е 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ngible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ректни трошк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лекова, трошкови мониторинга терапије, трошкови саветовања пацијената, трошкови прегледа лекара, трошкови дијагностике, трошкови хоспиталног лечења...)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едицин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рошкови превоза, измене услова становања, трошкови настали због измена у исхрани услед болести, трошкови настали због хроничног тока болести, ит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ректни трошков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који настају као последица губитка радне способности или пацијената или члана породице који негује оболелог, а које је узроковано природом боле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хватљиви трошков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овани емотивном компонентом као што су: бол, патња, анксиозност, депресивност, а које настају код пацијената и/или чланова породице због боле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ксни трошков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 мењају се током једног интервала (годину дана на пр.) пружања услуге : плате здравствених радника, трошкови одржавања опреме, просторија и сл..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ријабилни трошков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менљиви током времена – трошкови због употребе терапије, медицинских средстава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ошкови могућност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ошкови опортунитета)- трошкови настали због изгубљене користи ако се примени једна интервенција уместо др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могућности (трошкови опортунитета): трошкови настали због изгубљене користи ако се примени једна интервенција уместо друг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нутног или будућег здравственог стања пацијента која може настати као последица прим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економским истраживањима, исходи се посматрају са хронолошког аспекта као последице примене нек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исхода у фармакоекономским студијама поред клиничких домена (ефикасност и безбедност) подразумева и хуманистичке и економске домене последица примењене медицинске интервенциј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нових захтева у систему здравствене заштите намећу потребу за адекватнијом расподелом ресур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нових терапијских стратегија готово увек подразумева и пораст трошкова лечења са посебним утицајем на буџет намењен здравству у цел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шење одлуке да ли прихватити увођење неког новог лека или неке нове процедуре подразумева сагледавање добити (eng. benefit), али и трошкова (eng.costs) нове интеревнције а у домен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е економ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фикасност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effica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Да ли лечење постиже ефекат тј да ли је ефека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процењује се у клиничким студиј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инички ефека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clinical effectivenes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 у коме лек постиже ефекат у клиничкој прак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на корист од лек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fficiency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лек вредан цене коју за њега плаћају појединци  идруштво? Процењује се у фармакоекономским студиј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oun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ји потреба за добијањем услуге из домена  здравственог система одмах а уз одлагање плаћања исте  (3-6%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iligness to pay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премност друштва да плати неку терапијску опциј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c0504d"/>
                </a:solidFill>
                <a:uFillTx/>
                <a:latin typeface="Times New Roman"/>
              </a:rPr>
              <a:t>Анализа минимизирања трошкова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Times New Roman"/>
              </a:rPr>
              <a:t> (cost -minimisation analysi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анализа која се кори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евалуирају терапијске процедуре које су еквивалентне у смислу здравствених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њуј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ономске аспекте поредбених интервен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ост у смислу здравствених исхода поредбених терапијских процедура мора бити детаљно документована пре извођења анализе минимизирања трошков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тудије су типичне за фармакоекономске евалуације палете тзв. генеричких лекова или различитих облика једног истог ле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8900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4f81bd"/>
                </a:solidFill>
                <a:uFillTx/>
                <a:latin typeface="Times New Roman"/>
              </a:rPr>
              <a:t>Анализа односа трошкова и клиничког ефекта</a:t>
            </a: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</a:rPr>
              <a:t> (cost-effectiveness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снови је поређење медицинских интервенција у погледу трошкова, који се изражавају у монетарним јединицама и у погледу здравствених исхода који су изражени употребом тзв. природних јединица (нпр. број спречених егзацeрбација болести, број дана без симптома болести, број сачуваних живота, добијени број година живота, итд.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 временски хоризонт затева увођење дисконтне стоп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јално сепроцењуј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трошков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costs) 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ке у ефекти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incremental effects), а потом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однос ових разл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значава као инкрементални однос трошкова и ефеката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ЦЕ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eng. incremental cost-effectiveness ratio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лиза односа трошкова и корисности (енг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 – utility analysis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есе  терапијске стратегије се пореде у домену трошкова, који су изражени у монетарним јединицама и у домену добити, која је изражена у јединицама кор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корисности - године живота кориговане за квалитет нпр. (eng. Quality-Adjusted Life-Years (QALY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применљиво у случају када се пореде терапијске процедуре намењене за лечење хроничних боле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анализе односа трошкова и корисности се изражавају као однос трошкова и година живота коригованих за квалитет (трошкови/ QA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800080"/>
                </a:solidFill>
                <a:uFillTx/>
                <a:latin typeface="Times New Roman"/>
              </a:rPr>
              <a:t>Анализа односа трошкови /добит</a:t>
            </a:r>
            <a:r>
              <a:rPr b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 (енг. cost - benefit analys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уна се придружена добит сваког од третмана (у новчаним јединицама) и пореди са њиховим трошковима (вредност за новац, енг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и исходи испитиваних терапијских процедура су изражени у монетарним јединицама, док истраживачи анализом резултата овог типа фармакоекономске анализе указују на то да ли корист интервенција превазилази трошкове сваке интерв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дије трошкова лечења (eng. cost of illness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циљ имају идентификацију, процену и вредновањ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их трошкова који су садржани у лечењу болести од интереса и њених комплика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о место међу фармакоекономским анализама заузима израда Марковљевог мод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дизајном клиничких студија није предвиђено прикупљање сета економских података, или извођење фармакоекономске анализе односа трошкова и клиничког ефекта није могуће спровести због разлога логистичке или етичке природе, приступа се изради м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ковљев модел интегрише израду анализе одлуке уз сагледавање временске компонен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ање подржава наменски компјутерски програм TreeAge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ачни резултати се приказују табеларно и графички и то као инкрементални однос трошкова и ефеката (ИЦЕР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Calibri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рмацеута у фармакоекономској процени нових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фармакоекономских експерт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ачење резултата фармакоекономских ана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економија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потражњу и захтеве здравственог система и обезбеђује простор за доношење одлука у оквиру здравственог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аја и примењује принципе као и методологију здравствене економије у области фармацутске и здравствене зашт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6408720" cy="41720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24000" y="4437000"/>
            <a:ext cx="4176720" cy="201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рибуција ИЦЕРА-а у односу на 1-3 х вредности  </a:t>
            </a:r>
            <a:r>
              <a:rPr b="1" i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мности друштва да плати неку терапијску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цију одређује исплативост испитиване терапијске процедуре</a:t>
            </a:r>
            <a:r>
              <a:rPr b="1" lang="sr-R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4788000" y="4508640"/>
            <a:ext cx="4176720" cy="194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-“</a:t>
            </a:r>
            <a:r>
              <a:rPr b="1" lang="sr-Latn-RS" sz="20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dominanted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“</a:t>
            </a:r>
            <a:r>
              <a:rPr b="1" lang="sr-Latn-R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ominant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,4 –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нск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е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!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студи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дентификују, мере и пореде трошкове лечењ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ходе, ризике и користи различитих терапијских опциј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о с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о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и са економског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манистичког аспект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 као такве могу послужити доносиоцима одлука у здравственим системима при увођењу нових интервенција у свакодневни клинички р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- дефини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tional Society for Pharmacoeconomics and Outcomes Research (ISP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ципл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процењуј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нашање појединца, институције и тржишта у погледу употребе медицинских услуга са најчешћим фокусом на консеквенце коришћења ових услуга и последичне трош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но питање у фармакоекономским студијама је усмерено на упоређивање трошкова и ефикасности више терапијских 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цед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термин фармакоекономија садржи део који упућује на реч лек (lat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k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фармакоекономске евалуације су применљиве н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ве медицинске ресурсе и програ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а евалуациј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economic eval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ставља истраживање чији циљ јесте поређење најмање две медицинске интервенције како у смислу трошков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ако и у смислу ефеката (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ске евалу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линичког ефек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корис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utility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односа трошкова и доби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benefit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минимизације трош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st minimisation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рошкова лечења болести од интереса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llness stu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моделирањ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кономија – основни појмо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купна вредност ресурса који се утроше у производњи робе или услуг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а теорија трошкове = трошкови опортуните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а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c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шкови робе/улуге + проф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0:43:59Z</dcterms:created>
  <dc:creator>Marina Kostic</dc:creator>
  <dc:description/>
  <dc:language>en-US</dc:language>
  <cp:lastModifiedBy>Marina Kostic</cp:lastModifiedBy>
  <dcterms:modified xsi:type="dcterms:W3CDTF">2023-09-11T10:12:19Z</dcterms:modified>
  <cp:revision>71</cp:revision>
  <dc:subject/>
  <dc:title>Увод у фармакоекономију</dc:title>
</cp:coreProperties>
</file>